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09940"/>
        <c:axId val="11131723"/>
      </c:barChart>
      <c:catAx>
        <c:axId val="93309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31723"/>
        <c:crosses val="autoZero"/>
        <c:auto val="1"/>
        <c:lblAlgn val="ctr"/>
        <c:lblOffset val="100"/>
        <c:noMultiLvlLbl val="0"/>
      </c:catAx>
      <c:valAx>
        <c:axId val="11131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09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227-6579-48D4-BA6D-96229A2E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B5E-F7EA-4E6A-836C-6F07A9E6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298-5BB0-4BB6-B74D-35BB288B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21B-BC6D-4BB1-B766-D3BF7467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F93-0077-422D-B937-DC214F3F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B36-1408-46FF-A163-FC0F6F57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DC3-00B7-445E-84B4-24092CD4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B9A-C849-434D-8D7B-5D7342F1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219-864D-45E4-A9B2-81B68321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DCB-0DF2-4969-B1BE-CA7FA230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129-5B18-488C-9C0C-DBA673CE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F20-037D-4761-851A-47DD4D70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5EFCA-C18B-4D37-8B87-378EF9BB1B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