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74918"/>
        <c:axId val="96952410"/>
      </c:barChart>
      <c:catAx>
        <c:axId val="20074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2410"/>
        <c:crosses val="autoZero"/>
        <c:auto val="1"/>
        <c:lblAlgn val="ctr"/>
        <c:lblOffset val="100"/>
        <c:noMultiLvlLbl val="0"/>
      </c:catAx>
      <c:valAx>
        <c:axId val="96952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74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051-0686-41DA-9C3F-6D35AEE0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245-4DD5-409E-B113-1C47F66D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150-2320-4780-B991-D1E206EF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243-A995-4173-BC87-C6CDB7D2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BDA-B399-46AA-9CEE-DEF09EBB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145-826C-4DB1-947E-A8967811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130-C030-4AA9-B607-E7F1183D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E96-EAD1-48FA-9FB1-8AFCD4CE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248-6CD3-455B-9674-891C4B30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712-5B0F-4630-8517-16EA23D3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E94-5342-41CC-B57E-3E4FA0B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342-ED8D-4C0E-8A17-3836A61B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5C513-2D41-4560-B72F-996D67DBC7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