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24594"/>
        <c:axId val="15502858"/>
      </c:barChart>
      <c:catAx>
        <c:axId val="36624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02858"/>
        <c:crosses val="autoZero"/>
        <c:auto val="1"/>
        <c:lblAlgn val="ctr"/>
        <c:lblOffset val="100"/>
        <c:noMultiLvlLbl val="0"/>
      </c:catAx>
      <c:valAx>
        <c:axId val="15502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24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C15-B1A5-41C3-9CAE-9999B97F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D07-2B11-40B4-B2C1-9E278389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E4E-5025-4F3F-870C-D939898F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E0A-3415-4EE7-93B2-96C14839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827-C549-4EBC-BC8A-99423508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7BB-7E56-4623-BAFF-498F5259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7DA-518E-4EB3-BC5F-8F95482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AEC-C657-413C-B6FA-DE50215A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005-B5BC-46FF-9D87-432FFA72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87A-3912-435F-948B-4D5043B2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9E3-E291-45C8-8EAD-90B5D1A8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88F-A105-481E-A6A3-B9BAD40B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5ED10-1D4E-4691-A5F3-EC23C72BB2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