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548"/>
        <c:axId val="59057880"/>
      </c:barChart>
      <c:catAx>
        <c:axId val="640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57880"/>
        <c:crosses val="autoZero"/>
        <c:auto val="1"/>
        <c:lblAlgn val="ctr"/>
        <c:lblOffset val="100"/>
        <c:noMultiLvlLbl val="0"/>
      </c:catAx>
      <c:valAx>
        <c:axId val="59057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A6A-8506-4027-AE75-40044CC5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E25-3DEA-4C04-9C3E-FF14DCB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1F6-E976-49F8-BD42-E89D56EC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762-3E77-4462-BFCF-6FDCE01B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9D5-2828-4BDA-9F02-87E34078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8F2-5CDA-4B39-88C7-3DDB9319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4C8-EF98-4C87-8EE5-E3CA3BA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B8F-7225-48A7-8A76-352D7612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F6F-C7AF-46A7-84A5-EBEC76B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448-A713-4681-94DD-955E9958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96B-CD7B-477A-BEA3-8257CC0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EEB-CACA-45BB-9B0F-F793DFC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42C1-9A6D-4352-95AA-649128139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