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05772"/>
        <c:axId val="20954203"/>
      </c:barChart>
      <c:catAx>
        <c:axId val="35705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54203"/>
        <c:crosses val="autoZero"/>
        <c:auto val="1"/>
        <c:lblAlgn val="ctr"/>
        <c:lblOffset val="100"/>
        <c:noMultiLvlLbl val="0"/>
      </c:catAx>
      <c:valAx>
        <c:axId val="20954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05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482-CC56-4FA6-BEC8-6E84F3E0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599-5FAB-4521-A7B8-C667275A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781-0556-4FB9-BF8A-5AC0565A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54F-9F24-47F5-928E-C36CD249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F68-50EF-49B8-9815-8641C1D7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1A3-C556-4D3F-BB77-2865BC2C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400-5ADB-4B71-A17D-2BDD7568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C55-7B5B-4C6D-806C-D17CF223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6CE-6F12-4725-8F92-C7E712DD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E02-45A7-4959-8245-95654F35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12B-5496-4961-8CDD-D31B3824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EE5-FCD6-4E3D-8F92-133D14C7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1FE33-F677-466D-B14C-239014E8C7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