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435459"/>
        <c:axId val="29820013"/>
      </c:barChart>
      <c:catAx>
        <c:axId val="744354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20013"/>
        <c:crosses val="autoZero"/>
        <c:auto val="1"/>
        <c:lblAlgn val="ctr"/>
        <c:lblOffset val="100"/>
        <c:noMultiLvlLbl val="0"/>
      </c:catAx>
      <c:valAx>
        <c:axId val="298200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354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B28A-FB76-455F-9E83-2DEB52F8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2A10-0BAE-4C12-8E87-B6D60DB9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E3EB-0C54-4CEE-AE9D-A3690D3C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1A45-C044-4AC6-AAFD-9B6157C3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0E0D-120C-4CEA-A075-97407518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6831-D570-4822-A91D-C7339926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17F6-5471-4CDC-AE0E-2D789BAA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DE6F-9538-4997-9F0C-3F7905B7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8095-2C00-476D-A241-5CACBC99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4955-D99D-40A6-B53D-6AD64DC8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203F-1BC8-4A42-9387-1D6FB4CD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EFD7-71F6-46EC-91E2-E3F3D576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CA3CB-2820-41C0-B1B3-61F85A77BB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